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0F12-1F3E-4F20-B40C-A31A8D1A6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CF5A-286C-4C73-B280-73A8CE2A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0D7D-687E-42E0-A5BC-CFE9692D3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7713-ABB3-4877-8473-24935EB76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9747-505E-49B6-A9ED-6F7A9DE9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08CC-2F32-4845-8039-E2C443A2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F126-5F19-48AB-A756-536C66ED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8E94-3CB6-42BD-B772-7D4C5A45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DC0F-2B86-4A6E-8CD8-77CAF5C6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86A5-60E8-44AF-AC04-E7545A9D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CFA8-9E91-4846-A4EF-097F3A10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1789-C31E-4B34-A899-885ED979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061A-C008-4DF1-921A-A4F6498EA7A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hyperlink" Target="C:\Documents and Settings\Darren\Desktop\Escuela de Verano\Escuela de Verano\Fotos para Clases\kepler earth-short.mp3" TargetMode="External"/><Relationship Id="rId3" Type="http://schemas.openxmlformats.org/officeDocument/2006/relationships/hyperlink" Target="C:\Documents and Settings\Darren\Desktop\Escuela de Verano\Escuela de Verano\Fotos para Clases\kepler earth venus mars.mid" TargetMode="External"/><Relationship Id="rId4" Type="http://schemas.openxmlformats.org/officeDocument/2006/relationships/hyperlink" Target="C:\Documents and Settings\Darren\Desktop\Escuela de Verano\Escuela de Verano\Fotos para Clases\kepler-scale.mp3" TargetMode="External"/><Relationship Id="rId5" Type="http://schemas.openxmlformats.org/officeDocument/2006/relationships/hyperlink" Target="C:\Documents and Settings\Darren\Desktop\Escuela de Verano\Escuela de Verano\Fotos para Clases\kepler-stereo All six.mp3" TargetMode="Externa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nuev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Newton notó que la separación que existe entre los distintos colores que componen la luz siguen una secuencia similar a la tradicional escala mayor en la música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Larga – Larga – Corta – Larga - Larga - Larga – Corta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(Tono – Tono – SemiT – Tono –Tono –Tono –SemiTono)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Planteaba nuevamente una antigua pregunta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496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Había creado la Naturaleza una ley para la Melodía y la Armonía similares a la de la mezcla de colores?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8" name="Picture 4" descr="prism"/>
          <p:cNvPicPr/>
          <p:nvPr/>
        </p:nvPicPr>
        <p:blipFill>
          <a:blip r:embed="rId1"/>
          <a:stretch/>
        </p:blipFill>
        <p:spPr>
          <a:xfrm>
            <a:off x="4932360" y="1628640"/>
            <a:ext cx="3816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as universidades medievales, trazando el asunto hasta los antiguos griegos, afirmaban que así era…enseñaban Música como una arquitectura invisible, un espejo de los ciel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i="1" lang="es-CL" sz="2800" spc="-1" strike="noStrike">
                <a:solidFill>
                  <a:srgbClr val="ffffcc"/>
                </a:solidFill>
                <a:latin typeface="Arial"/>
              </a:rPr>
              <a:t>Sin música, no puede haber conocimiento perfecto…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”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escribiría el enciclopedista medieval Isidoro de Sevilla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, “…</a:t>
            </a:r>
            <a:r>
              <a:rPr b="0" i="1" lang="es-CL" sz="2800" spc="-1" strike="noStrike">
                <a:solidFill>
                  <a:srgbClr val="ffffcc"/>
                </a:solidFill>
                <a:latin typeface="Arial"/>
              </a:rPr>
              <a:t>pues incluso el Universo se dice fue ensamblado con una cierta armonía de sonidos…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28760" y="192888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Contraposición entre Naturaleza y Mecánica define profundamente qué tipo de música se puede hacer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La afinación DEBÍA estar regida por las leyes naturales (afinación Pitagórica, Justa, etc.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Ahora, el hombre tiene dominio sobre la naturaleza (permite la afinación Temperada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La batalla duró tan sólo 2000 años, desde Pitágoras a Bach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571680" y="571680"/>
            <a:ext cx="8001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A RELIGIÓN VS LA CIEN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ampo de Batalla de la Af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ambio de Visió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Tanto con la imposición de panteones patriarcales, como con las filosofías similares a las de Pitágoras, cada vez más iban perdiendo su carácter de sagrado la naturaleza, y se va pavimentando el camino para la Reforma Protestante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rotestantes buscaban purificar la religión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El Universo obedece inmutablemente a las leyes de Dios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repara el camino para la visión mecanicista del mundo.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el Universo como la  gran máquina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Francis Bac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Hizo parecer el dominio tecnológico de la naturaleza como la recuperación de poder dado al Hombre por Dios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Diferenció el conocimiento “natural” del mundo del conocimiento “moral”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Considerado por muchos como el fundador de la Ciencia moderna, inspiró la creación de la Royal Society of Lond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9" name="Picture 4" descr="Royal Society gresham"/>
          <p:cNvPicPr/>
          <p:nvPr/>
        </p:nvPicPr>
        <p:blipFill>
          <a:blip r:embed="rId1"/>
          <a:stretch/>
        </p:blipFill>
        <p:spPr>
          <a:xfrm>
            <a:off x="928800" y="4714920"/>
            <a:ext cx="3182760" cy="2001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Francis bacon"/>
          <p:cNvPicPr/>
          <p:nvPr/>
        </p:nvPicPr>
        <p:blipFill>
          <a:blip r:embed="rId2"/>
          <a:stretch/>
        </p:blipFill>
        <p:spPr>
          <a:xfrm>
            <a:off x="7072200" y="214200"/>
            <a:ext cx="162576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ne Descar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imero en articular la nueva visón mecanicista del univers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   “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odo el universo funciona en forma mecánica de acuerdo a necesidades matemática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UNIVERSO MECANIC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l Universo mecánico abrió puertas a un Dios mecánico. Esto influye fuertemente en todo ámbito de cosas, incluida la Música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articularmente, la AFINACIÓ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(Paréntesi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l Universo de Johannes Kepler (1572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Picture 4" descr="jkepler"/>
          <p:cNvPicPr/>
          <p:nvPr/>
        </p:nvPicPr>
        <p:blipFill>
          <a:blip r:embed="rId1"/>
          <a:stretch/>
        </p:blipFill>
        <p:spPr>
          <a:xfrm>
            <a:off x="755640" y="3213000"/>
            <a:ext cx="2021040" cy="244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kepler solids"/>
          <p:cNvPicPr/>
          <p:nvPr/>
        </p:nvPicPr>
        <p:blipFill>
          <a:blip r:embed="rId2"/>
          <a:stretch/>
        </p:blipFill>
        <p:spPr>
          <a:xfrm>
            <a:off x="4932360" y="1773360"/>
            <a:ext cx="3656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(Paréntesi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lación numérica entre los semiejes de las elipses descritas por los planeta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úsica de las Esferas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1" name="Picture 4" descr="kepler solar"/>
          <p:cNvPicPr/>
          <p:nvPr/>
        </p:nvPicPr>
        <p:blipFill>
          <a:blip r:embed="rId1"/>
          <a:stretch/>
        </p:blipFill>
        <p:spPr>
          <a:xfrm>
            <a:off x="3780000" y="620640"/>
            <a:ext cx="5003640" cy="374508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6">
            <a:hlinkClick r:id="rId2"/>
          </p:cNvPr>
          <p:cNvSpPr/>
          <p:nvPr/>
        </p:nvSpPr>
        <p:spPr>
          <a:xfrm>
            <a:off x="248436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>
            <a:hlinkClick r:id="rId3"/>
          </p:cNvPr>
          <p:cNvSpPr/>
          <p:nvPr/>
        </p:nvSpPr>
        <p:spPr>
          <a:xfrm>
            <a:off x="370836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2268360" y="59482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rra C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348000" y="5948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rra Venus M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0">
            <a:hlinkClick r:id="rId4"/>
          </p:cNvPr>
          <p:cNvSpPr/>
          <p:nvPr/>
        </p:nvSpPr>
        <p:spPr>
          <a:xfrm>
            <a:off x="543564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5075280" y="5948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2">
            <a:hlinkClick r:id="rId5"/>
          </p:cNvPr>
          <p:cNvSpPr/>
          <p:nvPr/>
        </p:nvSpPr>
        <p:spPr>
          <a:xfrm>
            <a:off x="716436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6804000" y="5948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 Plan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Profesor de Matemáticas en Trinity, Cambridge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Incansable experimentador, se encierra durante horas en su estudio a investigar distintos fenómenos de la naturalez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Matemáticas (disputa con Liebnitz el título de creador del Cálculo diferencial), mecánica, química, alquimia, se pincha la córnea con agujas para estudiar la deformación de la imagen, etc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2" name="Picture 4" descr="Newton_2"/>
          <p:cNvPicPr/>
          <p:nvPr/>
        </p:nvPicPr>
        <p:blipFill>
          <a:blip r:embed="rId1"/>
          <a:stretch/>
        </p:blipFill>
        <p:spPr>
          <a:xfrm>
            <a:off x="5010120" y="1600200"/>
            <a:ext cx="331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Su mayor fascinación en algún momento fue la descomposición de la luz blanca en sus distintos componentes al pasar por un prisma (efecto de refracción de la luz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Disputado por los líderes religiosos de la época, por considerar la luz blanca, “el más limpio vapor de iluminación, y símbolo de la pureza del Paraíso” como una amalgama de colores del arcoiri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5" name="Picture 4" descr="Newton_2"/>
          <p:cNvPicPr/>
          <p:nvPr/>
        </p:nvPicPr>
        <p:blipFill>
          <a:blip r:embed="rId1"/>
          <a:stretch/>
        </p:blipFill>
        <p:spPr>
          <a:xfrm>
            <a:off x="5010120" y="1600200"/>
            <a:ext cx="331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Editorial Zigzag</cp:lastModifiedBy>
  <dcterms:modified xsi:type="dcterms:W3CDTF">2009-01-07T14:13:23Z</dcterms:modified>
  <cp:revision>30</cp:revision>
  <dc:subject/>
  <dc:title>Taller de Ciencias en la Música </dc:title>
</cp:coreProperties>
</file>